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C57-34C9-4AB5-A91B-ECAF78C6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D8C-749D-4640-8493-E7C990AE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8F1-B69A-4059-B4A8-84E5CA75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E79-0D4C-461B-B35B-81196310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401-5BA2-42BE-9DBF-9B53C31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14B-FD6D-425C-A9EC-ECD346C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66A-84EE-4699-92B5-89BF220A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B21-0A52-4B37-B9A8-1340D7F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DE7-FE12-4B78-BF39-03486E5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C95-D05E-4AD7-A3C5-85C00AD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FA5-10A7-4F78-8137-3FB48EAB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649-6D3E-4630-A82C-8921DD01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FA9-02DA-4463-BDB5-77999C13BFA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Renewable Vs Non-Renewab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act that these natural resources are running out has meant that alternative forms of energy are having to be develop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wo most widely used are nuclear energy and hydro-electric pow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nuclear energy does rely on a finite natural resource (uranium, plutonium or other similar minerals), it uses so little that there is very little chance of the reserves running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E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ther group of non-renewable resourc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neral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s include valuable stones such as diamonds, but more importantly deposits of iron ore (used in the steel making process) and bauxite (used in aluminium manufactur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ain these resources are finite and have been extensively used over the past 200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newable resourc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re ones that will never run out, either naturally or through good manage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urally re-occurring resources include the wind, waves, air and the su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of these things are naturally occurring and will never run out (or not until humans have long since died out!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can all be used for human benefit and are becoming increasingly important in the search for alternative energy sourc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ever, recently, some of these have been affected by human actions, such as the burning of the rainforests polluting the atmosphe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natural resources need some degree of management to allow them to be renew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s are one good example of th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opical Rainfore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being rapidly wiped out, and the natural vegetation destroyed in places like the Amazon rainfo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very little chance of growing bac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many countries do now have forestry schemes which include wide-scale replanting so that there are similar numbers of trees for future generations to 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trees tend to be quick growing coniferous softwoods like fir and pine, rather than the slow growing deciduous hardwoods like mahogany and t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natural resources that need some for of control and management to remain sustainable are things such as soil, water, fish and wild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renewable, as long as they are not over-used or exploited by hum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Non-Renew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renewable resources are ones that will eventually run ou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described as being finite and can be easily divided into two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ssil Fu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the first group of non-renewable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include oil, coal and natural gas, which will all run out in the fut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ly humans have greatly increased their use of these fuels over the past 200 years, which has led to them potentially running out quite so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hough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ossil fuel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ve been produced naturally, their formation takes millions of years, so there is no real chance of making any mo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ll are the result of the decomposition of plants or animals, which over time have been compressed by sediments layered down on top of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have not discovered all the coal, oil and natural gas deposits in the world, but they are becoming increasingly hard to find and then to exploi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oil companies looking for new deposits spend millions of pounds every year, but it is a very difficult proce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st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st o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erves in the world will run out within the next 5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e exception might be some of the oil-rich Arab states, which should be able to continue production for a further 5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 decreasing availability of oil, as well as the continuing need for it may well see the price rising to a point where it is not economically viable to us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st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al reser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expected to last over 30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estimate has consistently increased over the past few years as more fuel-efficient methods of using coal have been introduced and better technology has allowed mines to go further undergrou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rend may well continue with future develop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st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tural g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becoming increasingly used as an alternative fuel to coal or oil, and the latest estimates suggest that there is enough remaining for approximately another 125 yea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stimate may of course decrease if the increase in its use contin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2:45:32Z</dcterms:created>
  <dc:creator>Dell_02</dc:creator>
  <dc:description/>
  <dc:language>en-US</dc:language>
  <cp:lastModifiedBy>Dell_02</cp:lastModifiedBy>
  <dcterms:modified xsi:type="dcterms:W3CDTF">2011-01-28T03:04:56Z</dcterms:modified>
  <cp:revision>2</cp:revision>
  <dc:subject/>
  <dc:title>Renewable Vs Non-Renewable</dc:title>
</cp:coreProperties>
</file>